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6BDB-CAD5-44E5-92D5-4FA97BC8E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6C36-D9C2-4BC8-ADFD-F7866D7C5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630E-B414-4874-81E4-395DA0D94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FA3D-4BAC-46EE-8A37-541A0D20A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F433-3932-4F13-928C-D618559DA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6E60-F31A-4830-ADB5-5138651E9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CB98-4745-4B07-9495-D5FAF6197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549B-2A5D-410B-A954-98EFA77BE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9933-FFCF-4983-886F-49C97EAEF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1C56-880F-4757-A2F2-882C5828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4D0F-87AB-4D60-879B-751BBC77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C495-39D4-4814-8F2D-48B657DA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55542-BC1A-4270-8086-4399C3072DB0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Mis documentos\Sin título-1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Mis documentos\Sin título-1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Mis documentos\Sin título-11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Mis documentos\Sin título-1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Mis documentos\Sin título-1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Mis documentos\Sin título-1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Mis documentos\Sin título-1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Mis documentos\Sin título-16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Mis documentos\Sin título-17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Mis documentos\Sin título-18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Mis documentos\Sin título-19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Mis documentos\Sin título-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Mis documentos\Sin título-2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Mis documentos\Sin título-21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Mis documentos\Sin título-2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Mis documentos\Sin título-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Mis documentos\Sin título-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Mis documentos\Sin título-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Mis documentos\Sin título-6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Mis documentos\Sin título-7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Mis documentos\Sin título-8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Mis documentos\Sin título-9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4T08:42:35Z</dcterms:created>
  <dc:creator>Grupo Editorial</dc:creator>
  <dc:description/>
  <dc:language>en-US</dc:language>
  <cp:lastModifiedBy>TORRES</cp:lastModifiedBy>
  <dcterms:modified xsi:type="dcterms:W3CDTF">2010-12-18T22:09:57Z</dcterms:modified>
  <cp:revision>1</cp:revision>
  <dc:subject/>
  <dc:title>Sin título de diapositiva</dc:title>
</cp:coreProperties>
</file>